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32600"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B2C148-2A76-4FD6-B352-89EEE02FE1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030B0-E932-4F48-8203-8AD4622F8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18B42-0D94-4F05-902C-941131B3E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4E460D-662B-44ED-AE13-2204A2655F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FB73AC3-9528-440E-972E-51A51874B9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F989EA4-0415-4856-9CB1-C6B668BCFC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730FE64-7CAD-4DE9-B4CB-563C4138A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396F50D-231D-413F-BB08-FA7C184964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953CC48-20F8-4BB0-8BB4-7FF901CC3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9D86543-780B-4AC0-BF90-3DFDAC9E1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95BE0CB-4D7A-4AE8-BC5D-C4DEFCDD7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DDD9D-5051-4085-B599-4036DEC2E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7A22454-9E0F-452B-9AAF-2C06BB04EB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BF9DC54-F38C-45B7-93AD-155D3781B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16D83D6-2CCA-43B2-AC9B-CAB686C3D5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6BF01F7-3C8D-413F-A486-6744CB1D98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69C8058-310D-4CBD-AA96-C9C6CA0B82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B8A9E-C7EC-4CB2-B694-87A950753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CEF9F-C302-4D91-B003-10B7D35B2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C3271-87C6-4010-97FA-F08193548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4B685-A3AF-4968-BF74-F85A9FB80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1BB02-2D25-43AE-94A0-48CE6A083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C6C50-4B80-42F9-A8B7-B40FE3B8F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E37CA-247A-4913-A457-3F64DAFDC3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C7063-E457-44B6-93F2-87F7079FB0EF}"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23331-4BDE-4E3C-BE82-F4522273E171}"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714680" y="1125360"/>
            <a:ext cx="6081480" cy="46087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4</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قوائم التدفقات النقدية</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228600" y="1066680"/>
            <a:ext cx="8229600" cy="4848840"/>
          </a:xfrm>
          <a:prstGeom prst="rect">
            <a:avLst/>
          </a:prstGeom>
          <a:noFill/>
          <a:ln w="0">
            <a:noFill/>
          </a:ln>
        </p:spPr>
        <p:style>
          <a:lnRef idx="0"/>
          <a:fillRef idx="0"/>
          <a:effectRef idx="0"/>
          <a:fontRef idx="minor"/>
        </p:style>
        <p:txBody>
          <a:bodyPr lIns="90000" rIns="90000" tIns="46800" bIns="46800" anchor="t">
            <a:spAutoFit/>
          </a:bodyPr>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أنشطة التمويل</a:t>
            </a:r>
            <a:endParaRPr b="0" lang="en-US" sz="2400" spc="-1" strike="noStrike">
              <a:solidFill>
                <a:srgbClr val="ffffff"/>
              </a:solidFill>
              <a:latin typeface="Times New Roman"/>
            </a:endParaRPr>
          </a:p>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مثل الأنشطة التى ينتج عنها تغيرات فى حجم ومكونات حقوق الملكية والإقتراض طويل الأجل</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النقدية من إصدار الأسهم أو صكوك الملكية الأخرى وكذا المدفوعات النقدية لملاك المشروع فى إطار إسترداد الأسهم.</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والمدفوعات النقدية المتعلقة بإصدار صكوك الدائنية والقروض طويلة الأجل  مثل السندات.</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التى يدفعها المستأجر لتخفيض الإلتزامات المتعلقة بعقود التأجير التمويلى.</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سداد توزيعات الارباح</a:t>
            </a:r>
            <a:endParaRPr b="0" lang="en-US" sz="2400" spc="-1" strike="noStrike">
              <a:solidFill>
                <a:srgbClr val="ffffff"/>
              </a:solidFill>
              <a:latin typeface="Times New Roman"/>
            </a:endParaRPr>
          </a:p>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380880" y="762120"/>
            <a:ext cx="8305920" cy="6532560"/>
          </a:xfrm>
          <a:prstGeom prst="rect">
            <a:avLst/>
          </a:prstGeom>
          <a:noFill/>
          <a:ln w="0">
            <a:noFill/>
          </a:ln>
        </p:spPr>
        <p:style>
          <a:lnRef idx="0"/>
          <a:fillRef idx="0"/>
          <a:effectRef idx="0"/>
          <a:fontRef idx="minor"/>
        </p:style>
        <p:txBody>
          <a:bodyPr lIns="90000" rIns="90000" tIns="46800" bIns="46800" anchor="t">
            <a:spAutoFit/>
          </a:bodyPr>
          <a:p>
            <a:pPr marL="168120" indent="-16812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أنشطة الإستثمار</a:t>
            </a:r>
            <a:endParaRPr b="0" lang="en-US" sz="2400" spc="-1" strike="noStrike">
              <a:solidFill>
                <a:srgbClr val="ffffff"/>
              </a:solidFill>
              <a:latin typeface="Times New Roman"/>
            </a:endParaRPr>
          </a:p>
          <a:p>
            <a:pPr marL="168120" indent="-16812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مثل أنشطة إقتناء أو إستبعاد الأصول طويلة الأجل والاستثمارات بخلاف ما هو فى حكم النقدية أو المتاجرة. </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لإقتناء أصول ثابتة أو غير ملموسة أو نفقات التصنيع الداخلى لها فضلا عن المقبوضات النقدية من بيع تلك الأصول.</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لإقتناء اسهم وسندات بخلاف المحتفظ بها للمتاجرة وكذا المقبوضات النقدية المتعلقة ببيع تلك الاستثمارات.</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والمقبوضات النقدية عن القروض الممنوحة لأطراف أخرى (بخلاف البنوك)</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والمقبوضات النقدية المتعلقة بالعقود الآجلة والعقود المستقبلية أو عقود الأختيارات  ما لم تكن محتفظا بها لأغراض المتاجر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685800" y="990720"/>
            <a:ext cx="7924680" cy="61668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معالجة حالات خاصة بقائمة الت</a:t>
            </a:r>
            <a:r>
              <a:rPr b="1" lang="ar-EG" sz="2400" spc="-1" strike="noStrike" u="sng">
                <a:solidFill>
                  <a:srgbClr val="ffff00"/>
                </a:solidFill>
                <a:uFillTx/>
                <a:latin typeface="Arial"/>
                <a:cs typeface="Arial"/>
              </a:rPr>
              <a:t>د</a:t>
            </a:r>
            <a:r>
              <a:rPr b="1" lang="ar-SA" sz="2400" spc="-1" strike="noStrike" u="sng">
                <a:solidFill>
                  <a:srgbClr val="ffff00"/>
                </a:solidFill>
                <a:uFillTx/>
                <a:latin typeface="Arial"/>
                <a:cs typeface="Arial"/>
              </a:rPr>
              <a:t>فقات النقدي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a:t>
            </a:r>
            <a:r>
              <a:rPr b="1" lang="ar-EG" sz="2400" spc="-1" strike="noStrike" u="sng">
                <a:solidFill>
                  <a:srgbClr val="ffff00"/>
                </a:solidFill>
                <a:uFillTx/>
                <a:latin typeface="Arial"/>
                <a:cs typeface="Arial"/>
              </a:rPr>
              <a:t>ع</a:t>
            </a:r>
            <a:r>
              <a:rPr b="1" lang="ar-SA" sz="2400" spc="-1" strike="noStrike" u="sng">
                <a:solidFill>
                  <a:srgbClr val="ffff00"/>
                </a:solidFill>
                <a:uFillTx/>
                <a:latin typeface="Arial"/>
                <a:cs typeface="Arial"/>
              </a:rPr>
              <a:t>وائد وتوزيعات الأرباح</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لا يوجد إجماع على مكان عرض وتبويب التدفقات النقدية من ال</a:t>
            </a:r>
            <a:r>
              <a:rPr b="1" lang="ar-EG" sz="2400" spc="-1" strike="noStrike">
                <a:solidFill>
                  <a:srgbClr val="ffffff"/>
                </a:solidFill>
                <a:latin typeface="Arial"/>
                <a:cs typeface="Arial"/>
              </a:rPr>
              <a:t>ع</a:t>
            </a:r>
            <a:r>
              <a:rPr b="1" lang="ar-SA" sz="2400" spc="-1" strike="noStrike">
                <a:solidFill>
                  <a:srgbClr val="ffffff"/>
                </a:solidFill>
                <a:latin typeface="Arial"/>
                <a:cs typeface="Arial"/>
              </a:rPr>
              <a:t>وائد المدفوعة وتوزيعات الارباح المحصلة ولهذا فقد حددت المعايير الدولية والمصرية أنه ينبغى على المنشأة ان تفصح عن تلك العناصر بشكل منفصل مع تبويبها بطريقة تتصف بالثبات من فترة لأخرى.</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ضرائب على الدخل</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لا تظهر الضرائب المحتسبة عن العام بقائمة التدفق النقدى بإعتبارها معاملة لم يترتب عليها تدفقات نقدية فى حين تظهر الضرائب المسد</a:t>
            </a:r>
            <a:r>
              <a:rPr b="1" lang="ar-EG" sz="2400" spc="-1" strike="noStrike">
                <a:solidFill>
                  <a:srgbClr val="ffffff"/>
                </a:solidFill>
                <a:latin typeface="Arial"/>
                <a:cs typeface="Arial"/>
              </a:rPr>
              <a:t>د</a:t>
            </a:r>
            <a:r>
              <a:rPr b="1" lang="ar-SA" sz="2400" spc="-1" strike="noStrike">
                <a:solidFill>
                  <a:srgbClr val="ffffff"/>
                </a:solidFill>
                <a:latin typeface="Arial"/>
                <a:cs typeface="Arial"/>
              </a:rPr>
              <a:t>ة خلال الفترة عادة ضمن التدفقات النقدية من انشطة التشغيل.</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533520" y="380880"/>
            <a:ext cx="8153280" cy="8361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بنود غير العادي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جب على المنشاة الإفصاح عن التدفقات النقدية المتعلقة بالبنود غير العادية عن انشطة الإستثمار او التمويل بشكل منفصل لتمكين مستخدمى القوائم المالية من فهم طبيعتها واثرها على التدفقات النقدية الحالية والمستقبلية.</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أستثمار فى شركات تابعة وشركات شقيق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ند المحاسبة عن هذه النوعية من الإستثمارات بإستخدام طريقة حقوق الملكية أو طريقة التكلفة فيتم فقط إثبات التدفقات النقدية بين المنشأة والجهة المستثمر فيها مثل توزيعات الأرباح والقروض.</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تدفقات النقدية بالعملة الاجنبي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ثبت تلك المعاملات بعملة عرض القوائم المالية بإستخدام سعر الصرف السارى فى تاريخ التدفق النقدى وكذلك الحال عند عرض التدفقات النقدية بالشركات التابعة الاجنبية (فى حالة إعداد القوائم المالية المجمعة) وبالتالى لا يسمح بإستخدام سعر الصرف السارى فى تاريخ الميزانية. ويعرض أثر التغير فى سعر الصرف كتسوية لأرصدة النقدية وما فى حكمها فى بداية ونهاية الفترة الما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457200" y="609480"/>
            <a:ext cx="8381880" cy="66776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عاملات غير النقدي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إن بعض المعاملات المتعلقة بكل من أنشطة الاستثمار والتمويل قد لا تتطلب إستخدام النقدية أو ما فى حكمها وبالتالى يتعين إستبعاد مثل تلك المعاملات عند عرض قائمة التدفق النقدى ، بل يتطلب الأمر الإفصاح عن مثل هذه النوعية من المعاملات بالإيضاحات المتممة للقوائم المالية أو فى أى مكان آخر بالقوائم المالي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شراء الأصول إما بتحميل الإلتزامات المتعلقة بها مباشرة أو عن طريق التأجير التمويلى. ولا يدخل فى ذلك إقتراض المنشأة اموالا لشراء تلك الأصول حيث يمثل هذا تدفقات نقدية داخلة بأنشطة التمويل وتدفقات نقدية خارجة بأنشطة الأستثمار.</a:t>
            </a: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شراء منشاة عن طريق إصدار أسهم حقوق الملكية.</a:t>
            </a: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تحويل الديون الى أسهم حقوق الملك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609480" y="457200"/>
            <a:ext cx="8001000" cy="7683480"/>
          </a:xfrm>
          <a:prstGeom prst="rect">
            <a:avLst/>
          </a:prstGeom>
          <a:noFill/>
          <a:ln w="0">
            <a:noFill/>
          </a:ln>
        </p:spPr>
        <p:style>
          <a:lnRef idx="0"/>
          <a:fillRef idx="0"/>
          <a:effectRef idx="0"/>
          <a:fontRef idx="minor"/>
        </p:style>
        <p:txBody>
          <a:bodyPr lIns="90000" rIns="90000" tIns="46800" bIns="46800" anchor="t">
            <a:spAutoFit/>
          </a:bodyPr>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طرق إعداد قائمة التدفق النقدى</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لا يختلف عرض التدفقات النقدية فى كل من انشطة الأستثمار والتمويل بين الطرق المختلفة لعرض قائمة التدفقات النقدية بل أن الإختلاف يكون عند عرض التدفقات النقدية من انشطة التشغيل والتى يمكن ان تعرض بالطريقتين التاليتين:</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طريقة غير المباشرة</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تم بموجبها تحديد صافى التدفق النقدى من أنشطة التشغيل عن طريق تسوية صافى أرباح أو خسائر الفترة بآثار المعاملات غير النقدية وأى تأجيل أو إستحقاق لمقبوضات ومدفوعات التشغيل</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تغيرات فى المخزون وحسابات مدينو ودائنو التشغيل.</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بنود غير النقدية مثل الإهلاكات والإستهلاكات والمخصصات والضرائب المؤجلة وأرباح وخسائر العملات الأجنبية غير المحققة وارباح الشركات المستثمر فيها غير الموزعة وحقوق الأقلية.</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جميع البنود الأخرى المتعلقة بأنشطة الإستثمار والتموي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
          <p:cNvSpPr/>
          <p:nvPr/>
        </p:nvSpPr>
        <p:spPr>
          <a:xfrm>
            <a:off x="533520" y="228600"/>
            <a:ext cx="8381880" cy="6677640"/>
          </a:xfrm>
          <a:prstGeom prst="rect">
            <a:avLst/>
          </a:prstGeom>
          <a:noFill/>
          <a:ln w="0">
            <a:noFill/>
          </a:ln>
        </p:spPr>
        <p:style>
          <a:lnRef idx="0"/>
          <a:fillRef idx="0"/>
          <a:effectRef idx="0"/>
          <a:fontRef idx="minor"/>
        </p:style>
        <p:txBody>
          <a:bodyPr lIns="90000" rIns="90000" tIns="46800" bIns="46800" anchor="t">
            <a:spAutoFit/>
          </a:bodyPr>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طريقة المباشرة</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تم تسوية كل عنصر من العناصر المكونة لصافى أرباح اوخسائر الفترة بالمعاملات غير النقدية المتعلقة به</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تحصلات النقدية من العملاء ( تسوية لحساب المبيعات والإيرادات الاخرى بقائمة الدخل).</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 العملاء أول المدة + المبيعات والإيرادات الآجلة – الديون المعدومة والمردودات</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 العملاء آخرالمدة = المتحصلات النقدية من العملاء</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للموردين ( تسوية لحساب تكلفة المبيعات والمصروفات الاخرى بقائمة الدخل. </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 الموردين والمستح</a:t>
            </a:r>
            <a:r>
              <a:rPr b="1" lang="ar-EG" sz="2400" spc="-1" strike="noStrike">
                <a:solidFill>
                  <a:srgbClr val="ffffff"/>
                </a:solidFill>
                <a:latin typeface="Arial"/>
                <a:cs typeface="Arial"/>
              </a:rPr>
              <a:t>ق</a:t>
            </a:r>
            <a:r>
              <a:rPr b="1" lang="ar-SA" sz="2400" spc="-1" strike="noStrike">
                <a:solidFill>
                  <a:srgbClr val="ffffff"/>
                </a:solidFill>
                <a:latin typeface="Arial"/>
                <a:cs typeface="Arial"/>
              </a:rPr>
              <a:t>ات اول المدة + المشتريات والمصروفات الآجلة – المردودات – الموردين والمستحقات آخر المدة  = المدفوعات النقدية للموردي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r>
              <a:rPr b="1" lang="ar-EG" sz="2800" spc="-1" strike="noStrike">
                <a:solidFill>
                  <a:srgbClr val="ffffff"/>
                </a:solidFill>
                <a:latin typeface="Arial"/>
              </a:rPr>
              <a:t> : مبسط لاعداد قائمة التدفق النقدى: فيما يلى القوائم المالية لشركة شوقى عبر البحار:-</a:t>
            </a:r>
            <a:endParaRPr b="0" lang="en-US" sz="2800" spc="-1" strike="noStrike">
              <a:solidFill>
                <a:srgbClr val="e3e3ff"/>
              </a:solidFill>
              <a:latin typeface="Arial"/>
            </a:endParaRPr>
          </a:p>
        </p:txBody>
      </p:sp>
      <p:graphicFrame>
        <p:nvGraphicFramePr>
          <p:cNvPr id="157" name=""/>
          <p:cNvGraphicFramePr/>
          <p:nvPr/>
        </p:nvGraphicFramePr>
        <p:xfrm>
          <a:off x="380880" y="1600200"/>
          <a:ext cx="8215560" cy="4809960"/>
        </p:xfrm>
        <a:graphic>
          <a:graphicData uri="http://schemas.openxmlformats.org/drawingml/2006/table">
            <a:tbl>
              <a:tblPr/>
              <a:tblGrid>
                <a:gridCol w="711360"/>
                <a:gridCol w="780840"/>
                <a:gridCol w="952560"/>
                <a:gridCol w="811440"/>
                <a:gridCol w="811080"/>
                <a:gridCol w="812880"/>
                <a:gridCol w="811080"/>
                <a:gridCol w="2524320"/>
              </a:tblGrid>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نقدية</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تمويل</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استثمار</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تشغيل</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التغير</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00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00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5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5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صول ثابتة (التكلف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1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1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4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ستثمارات فى شركات تابع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5</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5</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نقدية بالبنوك</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مخزون</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3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7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4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عملاء</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8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9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0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الاجمالـــــ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6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6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8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رأس المال المدفوع</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6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قروض طويلة الاج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3</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3</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دائنون</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صافى أرباح العا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2808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a:t>
                      </a:r>
                      <a:r>
                        <a:rPr b="1" lang="ar-EG" sz="2000" spc="-1" strike="noStrike">
                          <a:solidFill>
                            <a:srgbClr val="ffff00"/>
                          </a:solidFill>
                          <a:latin typeface="Arial"/>
                          <a:ea typeface="Arial"/>
                        </a:rPr>
                        <a:t>5</a:t>
                      </a:r>
                      <a:r>
                        <a:rPr b="1" lang="ar-EG" sz="2000" spc="-1" strike="noStrike">
                          <a:solidFill>
                            <a:srgbClr val="ffff00"/>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7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a:t>
                      </a:r>
                      <a:r>
                        <a:rPr b="1" lang="ar-EG" sz="2000" spc="-1" strike="noStrike">
                          <a:solidFill>
                            <a:srgbClr val="ffff00"/>
                          </a:solidFill>
                          <a:latin typeface="Arial"/>
                          <a:ea typeface="Arial"/>
                        </a:rPr>
                        <a:t>60</a:t>
                      </a:r>
                      <a:r>
                        <a:rPr b="1" lang="ar-EG" sz="2000" spc="-1" strike="noStrike">
                          <a:solidFill>
                            <a:srgbClr val="ffff00"/>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a:t>
                      </a:r>
                      <a:r>
                        <a:rPr b="1" lang="ar-EG" sz="2000" spc="-1" strike="noStrike">
                          <a:solidFill>
                            <a:srgbClr val="ffff00"/>
                          </a:solidFill>
                          <a:latin typeface="Arial"/>
                          <a:ea typeface="Arial"/>
                        </a:rPr>
                        <a:t>5</a:t>
                      </a:r>
                      <a:r>
                        <a:rPr b="1" lang="ar-EG" sz="2000" spc="-1" strike="noStrike">
                          <a:solidFill>
                            <a:srgbClr val="ffff00"/>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8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9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0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الاجمالـــــــ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28080">
                      <a:solidFill>
                        <a:srgbClr val="ffffff"/>
                      </a:solidFill>
                    </a:lnT>
                    <a:lnB w="280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قائمة التدفقات النقدية</a:t>
            </a:r>
            <a:br>
              <a:rPr sz="2400"/>
            </a:br>
            <a:r>
              <a:rPr b="1" lang="ar-EG" sz="2400" spc="-1" strike="noStrike" u="sng">
                <a:solidFill>
                  <a:srgbClr val="ffff00"/>
                </a:solidFill>
                <a:uFillTx/>
                <a:latin typeface="Arial"/>
              </a:rPr>
              <a:t>الطريقة غير المباشرة</a:t>
            </a:r>
            <a:endParaRPr b="0" lang="en-US" sz="2400" spc="-1" strike="noStrike">
              <a:solidFill>
                <a:srgbClr val="e3e3ff"/>
              </a:solidFill>
              <a:latin typeface="Arial"/>
            </a:endParaRPr>
          </a:p>
        </p:txBody>
      </p:sp>
      <p:graphicFrame>
        <p:nvGraphicFramePr>
          <p:cNvPr id="159" name=""/>
          <p:cNvGraphicFramePr/>
          <p:nvPr/>
        </p:nvGraphicFramePr>
        <p:xfrm>
          <a:off x="990720" y="1295280"/>
          <a:ext cx="7696080" cy="5283360"/>
        </p:xfrm>
        <a:graphic>
          <a:graphicData uri="http://schemas.openxmlformats.org/drawingml/2006/table">
            <a:tbl>
              <a:tblPr/>
              <a:tblGrid>
                <a:gridCol w="1218960"/>
                <a:gridCol w="1067040"/>
                <a:gridCol w="5410080"/>
              </a:tblGrid>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ea typeface="Arial"/>
                        </a:rPr>
                        <a:t>2005</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ea typeface="Arial"/>
                        </a:rPr>
                        <a:t>2006</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cs typeface="Arial"/>
                        </a:rPr>
                        <a:t>التدفقات النقدية من أنشطة التشغي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2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صافى أرباح العام</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إهلاك وإست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16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20</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ربح التشغيل قبل التغير فى رأس المال العام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نقص فى المخز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30</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الزيادة) فى حسابات العمل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3</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نقص فى أرصدة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5</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التدفقات النقدية من أنشطة التشغي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18720">
                      <a:solidFill>
                        <a:srgbClr val="ffffff"/>
                      </a:solid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18720">
                      <a:solidFill>
                        <a:srgbClr val="ffffff"/>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التدفقات النقدية من انشطة الاستثمار</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10</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شراء الشركة التابع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50</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شراء أصول ثابت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18720">
                      <a:solidFill>
                        <a:srgbClr val="ffffff"/>
                      </a:solid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r>
                        <a:rPr b="1" lang="ar-EG" sz="1600" spc="-1" strike="noStrike">
                          <a:solidFill>
                            <a:srgbClr val="ffff00"/>
                          </a:solidFill>
                          <a:latin typeface="Arial"/>
                          <a:ea typeface="Arial"/>
                        </a:rPr>
                        <a:t>60</a:t>
                      </a: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1872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التدفقات النقدية الناتجة من (المستخدمة فى) أنشطة الاستثمار</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895480" y="228240"/>
            <a:ext cx="3276720" cy="1066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تابع قائمة التدفقات النقدية</a:t>
            </a:r>
            <a:br>
              <a:rPr sz="2400"/>
            </a:br>
            <a:r>
              <a:rPr b="1" lang="ar-EG" sz="2400" spc="-1" strike="noStrike" u="sng">
                <a:solidFill>
                  <a:srgbClr val="ffff00"/>
                </a:solidFill>
                <a:uFillTx/>
                <a:latin typeface="Arial"/>
              </a:rPr>
              <a:t>الطريقة غير المباشرة</a:t>
            </a:r>
            <a:endParaRPr b="0" lang="en-US" sz="2400" spc="-1" strike="noStrike">
              <a:solidFill>
                <a:srgbClr val="e3e3ff"/>
              </a:solidFill>
              <a:latin typeface="Arial"/>
            </a:endParaRPr>
          </a:p>
        </p:txBody>
      </p:sp>
      <p:graphicFrame>
        <p:nvGraphicFramePr>
          <p:cNvPr id="161" name=""/>
          <p:cNvGraphicFramePr/>
          <p:nvPr/>
        </p:nvGraphicFramePr>
        <p:xfrm>
          <a:off x="990720" y="1600200"/>
          <a:ext cx="7696080" cy="3251160"/>
        </p:xfrm>
        <a:graphic>
          <a:graphicData uri="http://schemas.openxmlformats.org/drawingml/2006/table">
            <a:tbl>
              <a:tblPr/>
              <a:tblGrid>
                <a:gridCol w="1218960"/>
                <a:gridCol w="1067040"/>
                <a:gridCol w="5410080"/>
              </a:tblGrid>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ea typeface="Arial"/>
                        </a:rPr>
                        <a:t>2005</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ea typeface="Arial"/>
                        </a:rPr>
                        <a:t>2006</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cs typeface="Arial"/>
                        </a:rPr>
                        <a:t>التدفقات النقدية من أنشطة التموي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قبوضات من إصدار أسهم رأس الما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10</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قبوضات من إقتراض طويل الاج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70</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النقدية الناتجة من (المستخدمة فى) أنشطة التموي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13680">
                      <a:solidFill>
                        <a:srgbClr val="ffffff"/>
                      </a:solid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5</a:t>
                      </a:r>
                      <a:endParaRPr b="0" lang="en-US" sz="1600" spc="-1" strike="noStrike">
                        <a:solidFill>
                          <a:srgbClr val="ffffff"/>
                        </a:solidFill>
                        <a:latin typeface="Times New Roman"/>
                      </a:endParaRPr>
                    </a:p>
                  </a:txBody>
                  <a:tcPr anchor="t" marL="90000" marR="90000">
                    <a:lnL>
                      <a:noFill/>
                    </a:lnL>
                    <a:lnR>
                      <a:noFill/>
                    </a:lnR>
                    <a:lnT w="13680">
                      <a:solidFill>
                        <a:srgbClr val="ffffff"/>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الزيادة (النقص) فى النقدية وما فى حكمها</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10</a:t>
                      </a:r>
                      <a:endParaRPr b="0" lang="en-US" sz="1600" spc="-1" strike="noStrike">
                        <a:solidFill>
                          <a:srgbClr val="ffffff"/>
                        </a:solidFill>
                        <a:latin typeface="Times New Roman"/>
                      </a:endParaRPr>
                    </a:p>
                  </a:txBody>
                  <a:tcPr anchor="t" marL="90000" marR="90000">
                    <a:lnL>
                      <a:noFill/>
                    </a:lnL>
                    <a:lnR>
                      <a:noFill/>
                    </a:lnR>
                    <a:lnT>
                      <a:no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النقدية ومافى حكمها فى بداية السن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08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18720">
                      <a:solidFill>
                        <a:srgbClr val="ffffff"/>
                      </a:solid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15</a:t>
                      </a:r>
                      <a:endParaRPr b="0" lang="en-US" sz="1600" spc="-1" strike="noStrike">
                        <a:solidFill>
                          <a:srgbClr val="ffffff"/>
                        </a:solidFill>
                        <a:latin typeface="Times New Roman"/>
                      </a:endParaRPr>
                    </a:p>
                  </a:txBody>
                  <a:tcPr anchor="t" marL="90000" marR="90000">
                    <a:lnL>
                      <a:noFill/>
                    </a:lnL>
                    <a:lnR>
                      <a:noFill/>
                    </a:lnR>
                    <a:lnT w="1872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النقدية ومافى حكمها فى نهاية السن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71800" y="456840"/>
            <a:ext cx="22860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ات</a:t>
            </a:r>
            <a:endParaRPr b="0" lang="en-US" sz="3200" spc="-1" strike="noStrike">
              <a:solidFill>
                <a:srgbClr val="e3e3ff"/>
              </a:solidFill>
              <a:latin typeface="Arial"/>
            </a:endParaRPr>
          </a:p>
        </p:txBody>
      </p:sp>
      <p:sp>
        <p:nvSpPr>
          <p:cNvPr id="124" name="PlaceHolder 2"/>
          <p:cNvSpPr>
            <a:spLocks noGrp="1"/>
          </p:cNvSpPr>
          <p:nvPr>
            <p:ph/>
          </p:nvPr>
        </p:nvSpPr>
        <p:spPr>
          <a:xfrm>
            <a:off x="1219320" y="1143000"/>
            <a:ext cx="5029200" cy="1752480"/>
          </a:xfrm>
          <a:prstGeom prst="rect">
            <a:avLst/>
          </a:prstGeom>
          <a:noFill/>
          <a:ln w="0">
            <a:noFill/>
          </a:ln>
        </p:spPr>
        <p:txBody>
          <a:bodyPr lIns="90000" rIns="90000" tIns="46800" bIns="46800" anchor="t">
            <a:normAutofit fontScale="99000"/>
          </a:bodyPr>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دف المعيار</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طاق المعيار</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همية عرض معلومات التدفق النقدى</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عريفـــات</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نقدية وما فى حكمها</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الجة حالات خاصة بقائمة التدفق النقدى</a:t>
            </a:r>
            <a:endParaRPr b="0" lang="en-US" sz="1800" spc="-1" strike="noStrike">
              <a:solidFill>
                <a:srgbClr val="ffffff"/>
              </a:solidFill>
              <a:latin typeface="Arial"/>
            </a:endParaRPr>
          </a:p>
          <a:p>
            <a:pPr marL="3394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1295280" y="2895480"/>
            <a:ext cx="4496040" cy="1739880"/>
          </a:xfrm>
          <a:prstGeom prst="rect">
            <a:avLst/>
          </a:prstGeom>
          <a:noFill/>
          <a:ln w="0">
            <a:noFill/>
          </a:ln>
        </p:spPr>
        <p:style>
          <a:lnRef idx="0"/>
          <a:fillRef idx="0"/>
          <a:effectRef idx="0"/>
          <a:fontRef idx="minor"/>
        </p:style>
        <p:txBody>
          <a:bodyPr lIns="90000" rIns="90000" tIns="46800" bIns="46800" anchor="t">
            <a:spAutoFit/>
          </a:bodyPr>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عوائد وتوزيعات الارباح</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ضرائب على الدخل</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بنود غير العادية</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استثمار فى شركات تابعة وشركات شقيقة</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تدفقات النقدية بالعملة الاجنبية</a:t>
            </a:r>
            <a:endParaRPr b="0" lang="en-US" sz="1800" spc="-1" strike="noStrike">
              <a:solidFill>
                <a:srgbClr val="ffffff"/>
              </a:solidFill>
              <a:latin typeface="Times New Roman"/>
            </a:endParaRPr>
          </a:p>
        </p:txBody>
      </p:sp>
      <p:sp>
        <p:nvSpPr>
          <p:cNvPr id="126" name=""/>
          <p:cNvSpPr/>
          <p:nvPr/>
        </p:nvSpPr>
        <p:spPr>
          <a:xfrm>
            <a:off x="1219320" y="4419720"/>
            <a:ext cx="4952880" cy="916920"/>
          </a:xfrm>
          <a:prstGeom prst="rect">
            <a:avLst/>
          </a:prstGeom>
          <a:noFill/>
          <a:ln w="0">
            <a:noFill/>
          </a:ln>
        </p:spPr>
        <p:style>
          <a:lnRef idx="0"/>
          <a:fillRef idx="0"/>
          <a:effectRef idx="0"/>
          <a:fontRef idx="minor"/>
        </p:style>
        <p:txBody>
          <a:bodyPr lIns="90000" rIns="90000" tIns="46800" bIns="46800" anchor="t">
            <a:spAutoFit/>
          </a:bodyPr>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معاملات غير النقدية</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طرق إعداد قائمة التدفق النقدى</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ثال توضيحى</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705360" y="1676160"/>
            <a:ext cx="2057400" cy="5331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هدف المعيار</a:t>
            </a:r>
            <a:endParaRPr b="0" lang="en-US" sz="2800" spc="-1" strike="noStrike">
              <a:solidFill>
                <a:srgbClr val="e3e3ff"/>
              </a:solidFill>
              <a:latin typeface="Arial"/>
            </a:endParaRPr>
          </a:p>
        </p:txBody>
      </p:sp>
      <p:sp>
        <p:nvSpPr>
          <p:cNvPr id="128" name="PlaceHolder 2"/>
          <p:cNvSpPr>
            <a:spLocks noGrp="1"/>
          </p:cNvSpPr>
          <p:nvPr>
            <p:ph/>
          </p:nvPr>
        </p:nvSpPr>
        <p:spPr>
          <a:xfrm>
            <a:off x="533160" y="2361960"/>
            <a:ext cx="8001000" cy="1447560"/>
          </a:xfrm>
          <a:prstGeom prst="rect">
            <a:avLst/>
          </a:prstGeom>
          <a:noFill/>
          <a:ln w="0">
            <a:noFill/>
          </a:ln>
        </p:spPr>
        <p:txBody>
          <a:bodyPr lIns="90000" rIns="90000" tIns="46800" bIns="46800" anchor="t">
            <a:normAutofit fontScale="79000"/>
          </a:bodyPr>
          <a:p>
            <a:pPr marL="270720" indent="-2707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رض معلومات عن التغيرات التاريخية فى النقدية وما فى حكمها للمنشأة وذلك عن طريق قائمة التدفق النقدى والتى تبوب التدفقات النقدية خلال الفترة الى تدفقات نقدية من أنشطة:- </a:t>
            </a:r>
            <a:endParaRPr b="0" lang="en-US" sz="2800" spc="-1" strike="noStrike">
              <a:solidFill>
                <a:srgbClr val="ffffff"/>
              </a:solidFill>
              <a:latin typeface="Arial"/>
            </a:endParaRPr>
          </a:p>
        </p:txBody>
      </p:sp>
      <p:sp>
        <p:nvSpPr>
          <p:cNvPr id="129" name=""/>
          <p:cNvSpPr/>
          <p:nvPr/>
        </p:nvSpPr>
        <p:spPr>
          <a:xfrm>
            <a:off x="5867280" y="3733920"/>
            <a:ext cx="22860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تشغيل.</a:t>
            </a:r>
            <a:endParaRPr b="0" lang="en-US" sz="2800" spc="-1" strike="noStrike">
              <a:solidFill>
                <a:srgbClr val="ffffff"/>
              </a:solidFill>
              <a:latin typeface="Times New Roman"/>
            </a:endParaRPr>
          </a:p>
          <a:p>
            <a:pPr marL="343080" indent="-343080" algn="just" rtl="1">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استثمار</a:t>
            </a:r>
            <a:endParaRPr b="0" lang="en-US" sz="2800" spc="-1" strike="noStrike">
              <a:solidFill>
                <a:srgbClr val="ffffff"/>
              </a:solidFill>
              <a:latin typeface="Times New Roman"/>
            </a:endParaRPr>
          </a:p>
          <a:p>
            <a:pPr marL="343080" indent="-343080" algn="just" rtl="1">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تموي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705360" y="1600200"/>
            <a:ext cx="2057400" cy="533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31" name="PlaceHolder 2"/>
          <p:cNvSpPr>
            <a:spLocks noGrp="1"/>
          </p:cNvSpPr>
          <p:nvPr>
            <p:ph/>
          </p:nvPr>
        </p:nvSpPr>
        <p:spPr>
          <a:xfrm>
            <a:off x="609480" y="2286000"/>
            <a:ext cx="8229600" cy="2209680"/>
          </a:xfrm>
          <a:prstGeom prst="rect">
            <a:avLst/>
          </a:prstGeom>
          <a:noFill/>
          <a:ln w="0">
            <a:noFill/>
          </a:ln>
        </p:spPr>
        <p:txBody>
          <a:bodyPr lIns="90000" rIns="90000" tIns="46800" bIns="46800" anchor="t">
            <a:normAutofit fontScale="83000"/>
          </a:bodyPr>
          <a:p>
            <a:pPr marL="284400" indent="-2844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على جميع المنشآت إعداد قائمة التدفق النقدى وفقاً لمتطلبات هذا المعيار.</a:t>
            </a:r>
            <a:endParaRPr b="0" lang="en-US" sz="3200" spc="-1" strike="noStrike">
              <a:solidFill>
                <a:srgbClr val="ffffff"/>
              </a:solidFill>
              <a:latin typeface="Arial"/>
            </a:endParaRPr>
          </a:p>
          <a:p>
            <a:pPr marL="284400" indent="-2844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عرض هذه القائمة كجزء متمم للقوائم المالية بكل منشأة ولكل فترة يتم عرض القوائم المالية عن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304920" y="228600"/>
            <a:ext cx="8839080" cy="6311880"/>
          </a:xfrm>
          <a:prstGeom prst="rect">
            <a:avLst/>
          </a:prstGeom>
          <a:noFill/>
          <a:ln w="0">
            <a:noFill/>
          </a:ln>
        </p:spPr>
        <p:style>
          <a:lnRef idx="0"/>
          <a:fillRef idx="0"/>
          <a:effectRef idx="0"/>
          <a:fontRef idx="minor"/>
        </p:style>
        <p:txBody>
          <a:bodyPr lIns="90000" rIns="90000" tIns="46800" bIns="46800" anchor="t">
            <a:spAutoFit/>
          </a:bodyPr>
          <a:p>
            <a:pPr marL="574560" indent="-3474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أهمية عرض معلومات التدفق النقدى</a:t>
            </a:r>
            <a:endParaRPr b="0" lang="en-US" sz="2400" spc="-1" strike="noStrike">
              <a:solidFill>
                <a:srgbClr val="ffffff"/>
              </a:solidFill>
              <a:latin typeface="Times New Roman"/>
            </a:endParaRPr>
          </a:p>
          <a:p>
            <a:pPr marL="574560" indent="-3474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وفر قائمة التدفقات النقدية عند إستخدامها مع باقى القوائم المعلومات المالية التى تمكن مستخدمى القوائم المالية من تقييم التغييرات التى حدثت فى صافى أصول المنشاة وفى هيكلها المالى بما فى ذلك درجة توافر السيولة والقدرة على سداد الديون والقدرة على التأثير على المبالغ وتوقيتات التدفقات النقدية وكذا تحديد مقدرة المنشأة على توليد النقدية من الأنشطة المختلفة وإختبار العلاقة بين الربحية وصافى التدفق النقدى.</a:t>
            </a:r>
            <a:endParaRPr b="0" lang="en-US" sz="2400" spc="-1" strike="noStrike">
              <a:solidFill>
                <a:srgbClr val="ffffff"/>
              </a:solidFill>
              <a:latin typeface="Times New Roman"/>
            </a:endParaRPr>
          </a:p>
          <a:p>
            <a:pPr marL="574560" indent="-3474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74560" indent="-3474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تدفقات النقدية (الأساس النقدى) هى المبدأ الأساسى لإعداد قائمة التدفقات النقدية ومن ثم فهى تمثل التدفقات النقدية وما فى حكمها المدفوعة أو المحصلة  فى أنشطة المنشاة المختلفة وبالتالى فهى لا تشمل ما يلى:</a:t>
            </a:r>
            <a:endParaRPr b="0" lang="en-US" sz="2400" spc="-1" strike="noStrike">
              <a:solidFill>
                <a:srgbClr val="ffffff"/>
              </a:solidFill>
              <a:latin typeface="Times New Roman"/>
            </a:endParaRPr>
          </a:p>
          <a:p>
            <a:pPr marL="574560" indent="-3474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33" name=""/>
          <p:cNvSpPr/>
          <p:nvPr/>
        </p:nvSpPr>
        <p:spPr>
          <a:xfrm>
            <a:off x="533520" y="4343400"/>
            <a:ext cx="792468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معاملات غيرالنقدية مثل شراء أصول ثابتة بالأجل أو الحصول عليها من خلال عقود التأجير التمويلى وكذا إقتناء أحد الشركات عن طريق إصدار أسهم أو تحويل الديون الى حقوق الملكية.</a:t>
            </a:r>
            <a:endParaRPr b="0" lang="en-US" sz="24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حركة بين بنود النقدية وما فى حكمها مثل تمويل النقدية من حسابات جارية لدى البنوك أو إستخدام النقدية فى شراء بعض أنواع الأستثمارات قصيرة الأجل.</a:t>
            </a:r>
            <a:r>
              <a:rPr b="0" lang="ar-SA"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76360" y="380880"/>
            <a:ext cx="2514600" cy="457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تعريفــــــــات</a:t>
            </a:r>
            <a:endParaRPr b="0" lang="en-US" sz="2800" spc="-1" strike="noStrike">
              <a:solidFill>
                <a:srgbClr val="e3e3ff"/>
              </a:solidFill>
              <a:latin typeface="Arial"/>
            </a:endParaRPr>
          </a:p>
        </p:txBody>
      </p:sp>
      <p:sp>
        <p:nvSpPr>
          <p:cNvPr id="135" name="PlaceHolder 2"/>
          <p:cNvSpPr>
            <a:spLocks noGrp="1"/>
          </p:cNvSpPr>
          <p:nvPr>
            <p:ph/>
          </p:nvPr>
        </p:nvSpPr>
        <p:spPr>
          <a:xfrm>
            <a:off x="457200" y="1143000"/>
            <a:ext cx="8229600" cy="4495680"/>
          </a:xfrm>
          <a:prstGeom prst="rect">
            <a:avLst/>
          </a:prstGeom>
          <a:noFill/>
          <a:ln w="0">
            <a:noFill/>
          </a:ln>
        </p:spPr>
        <p:txBody>
          <a:bodyPr lIns="90000" rIns="90000" tIns="46800" bIns="46800" anchor="t">
            <a:normAutofit fontScale="84000"/>
          </a:bodyPr>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نقديـــة</a:t>
            </a:r>
            <a:r>
              <a:rPr b="1" lang="ar-EG" sz="2400" spc="-1" strike="noStrike">
                <a:solidFill>
                  <a:srgbClr val="ffffff"/>
                </a:solidFill>
                <a:latin typeface="Arial"/>
              </a:rPr>
              <a:t> : تتضمن النقدية بالصندوق والودائع تحت الطلب.</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افى حكم النقدية</a:t>
            </a:r>
            <a:r>
              <a:rPr b="1" lang="ar-EG" sz="2400" spc="-1" strike="noStrike">
                <a:solidFill>
                  <a:srgbClr val="ffffff"/>
                </a:solidFill>
                <a:latin typeface="Arial"/>
              </a:rPr>
              <a:t> : هى الاستثمارات قصيرة الاجل وعالية السيولة والتى يمكن تحويلها بسهولة إلى مبالغ نقدية محددة، والتى يكون تعرضها لمخاطر التغير فى قيمتها ضئيلاً.</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تدفقات النقدية</a:t>
            </a:r>
            <a:r>
              <a:rPr b="1" lang="ar-EG" sz="2400" spc="-1" strike="noStrike">
                <a:solidFill>
                  <a:srgbClr val="ffffff"/>
                </a:solidFill>
                <a:latin typeface="Arial"/>
              </a:rPr>
              <a:t> : هى التدفقات النقدية ومافى حكمها الداخلة والخارجة.</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أنشطة التشغيل</a:t>
            </a:r>
            <a:r>
              <a:rPr b="1" lang="ar-EG" sz="2400" spc="-1" strike="noStrike">
                <a:solidFill>
                  <a:srgbClr val="ffffff"/>
                </a:solidFill>
                <a:latin typeface="Arial"/>
              </a:rPr>
              <a:t> : هى الانشطة الرئيسية المنتجة للايراد للمنشأة، والانشطة الاخرى التى لا تمثل أنشطة إستثمار فى حكم النقدية.</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أنشطة الاستثمار</a:t>
            </a:r>
            <a:r>
              <a:rPr b="1" lang="ar-EG" sz="2400" spc="-1" strike="noStrike">
                <a:solidFill>
                  <a:srgbClr val="ffffff"/>
                </a:solidFill>
                <a:latin typeface="Arial"/>
              </a:rPr>
              <a:t> : هى أنشطة إقتناء وإستبعاد الاصول طويلة الاجل والاستثمارات الاخرى التى لا تدخل فى حكم النقدية.</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أنشطة التمويل</a:t>
            </a:r>
            <a:r>
              <a:rPr b="1" lang="ar-EG" sz="2400" spc="-1" strike="noStrike">
                <a:solidFill>
                  <a:srgbClr val="ffffff"/>
                </a:solidFill>
                <a:latin typeface="Arial"/>
              </a:rPr>
              <a:t> : هى الانشطة التى ينتج عنها تغييرات فى حجم ومكونات حقوق الملكية والاقتراض بالمنشأ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457200" y="457200"/>
            <a:ext cx="8229600" cy="7629840"/>
          </a:xfrm>
          <a:prstGeom prst="rect">
            <a:avLst/>
          </a:prstGeom>
          <a:noFill/>
          <a:ln w="0">
            <a:noFill/>
          </a:ln>
        </p:spPr>
        <p:style>
          <a:lnRef idx="0"/>
          <a:fillRef idx="0"/>
          <a:effectRef idx="0"/>
          <a:fontRef idx="minor"/>
        </p:style>
        <p:txBody>
          <a:bodyPr lIns="90000" rIns="90000" tIns="46800" bIns="46800" anchor="t">
            <a:spAutoFit/>
          </a:bodyPr>
          <a:p>
            <a:pPr marL="399960" indent="-39996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نقدية وما فى حكمها</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تستبعد أرصدة النقدية وما فى حكمها من عرض حركة التغير فى التدفقات النقدية المتعلقة بأنشطة المنشأة المختلفة وذلك على إعتبار أن التغير فى أرصدة النقدية وما فى حكمها هو ناتج  قائمة التدفق النقدى.</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تتمثل أرصدة النقدية وما فى حكمها فيما يلى:</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نقدية فى الصندوق وأرصدة الحسابات الجارية لدى البنوك</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إستثمارات قصيرة الاجل عالية السيولة متمثلة فى الأستثمارات التى يمكن تحويلها بسهولة الى مبالغ نقدية محددة فضلا الى أن إحتمال تعرضها لمخاطر التغير فى قيمتها يعتبر ضئيلا ويحتفظ بها لأغراض مواجهة الألتزامات النقدية قصيرة الاجل (فقط أذون الخزانة إستحقاق ثلاثة شهور أو أقل)</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عت</a:t>
            </a:r>
            <a:r>
              <a:rPr b="1" lang="ar-EG" sz="2400" spc="-1" strike="noStrike">
                <a:solidFill>
                  <a:srgbClr val="ffffff"/>
                </a:solidFill>
                <a:latin typeface="Arial"/>
                <a:cs typeface="Arial"/>
              </a:rPr>
              <a:t>ب</a:t>
            </a:r>
            <a:r>
              <a:rPr b="1" lang="ar-SA" sz="2400" spc="-1" strike="noStrike">
                <a:solidFill>
                  <a:srgbClr val="ffffff"/>
                </a:solidFill>
                <a:latin typeface="Arial"/>
                <a:cs typeface="Arial"/>
              </a:rPr>
              <a:t>ر السحب على المكشوف من البنوك الذى لا يكون ضمن ترتيبات إقتراض من بنود ما هو فى حكم النقد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1676520" y="228600"/>
            <a:ext cx="579096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عرض</a:t>
            </a:r>
            <a:r>
              <a:rPr b="1" lang="ar-SA" sz="2400" spc="-1" strike="noStrike" u="sng">
                <a:solidFill>
                  <a:srgbClr val="ffff00"/>
                </a:solidFill>
                <a:uFillTx/>
                <a:latin typeface="Arial"/>
                <a:ea typeface="Arial"/>
              </a:rPr>
              <a:t> التدفقات النقدية من الأنشطة المختلفة للمنشأة</a:t>
            </a:r>
            <a:endParaRPr b="0" lang="en-US" sz="2400" spc="-1" strike="noStrike">
              <a:solidFill>
                <a:srgbClr val="ffffff"/>
              </a:solidFill>
              <a:latin typeface="Times New Roman"/>
            </a:endParaRPr>
          </a:p>
        </p:txBody>
      </p:sp>
      <p:sp>
        <p:nvSpPr>
          <p:cNvPr id="138" name=""/>
          <p:cNvSpPr/>
          <p:nvPr/>
        </p:nvSpPr>
        <p:spPr>
          <a:xfrm>
            <a:off x="7315200" y="1752480"/>
            <a:ext cx="0" cy="19814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752480" y="1828800"/>
            <a:ext cx="0" cy="19051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4495680" y="34290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5715000" y="914400"/>
            <a:ext cx="2362320" cy="838080"/>
          </a:xfrm>
          <a:prstGeom prst="rect">
            <a:avLst/>
          </a:prstGeom>
          <a:noFill/>
          <a:ln w="5400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لأصول الثابتة</a:t>
            </a:r>
            <a:endParaRPr b="0" lang="en-US" sz="1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لأستثمارات طويلة الأجل</a:t>
            </a:r>
            <a:endParaRPr b="0" lang="en-US" sz="1800" spc="-1" strike="noStrike">
              <a:solidFill>
                <a:srgbClr val="ffffff"/>
              </a:solidFill>
              <a:latin typeface="Times New Roman"/>
            </a:endParaRPr>
          </a:p>
        </p:txBody>
      </p:sp>
      <p:sp>
        <p:nvSpPr>
          <p:cNvPr id="142" name=""/>
          <p:cNvSpPr/>
          <p:nvPr/>
        </p:nvSpPr>
        <p:spPr>
          <a:xfrm>
            <a:off x="380880" y="914400"/>
            <a:ext cx="3200400" cy="9144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تمويل ذاتى (رأس المال)</a:t>
            </a:r>
            <a:endParaRPr b="0" lang="en-US" sz="1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تمويل خارجى (قروض طويلة الأجل)</a:t>
            </a:r>
            <a:endParaRPr b="0" lang="en-US" sz="1800" spc="-1" strike="noStrike">
              <a:solidFill>
                <a:srgbClr val="ffffff"/>
              </a:solidFill>
              <a:latin typeface="Times New Roman"/>
            </a:endParaRPr>
          </a:p>
        </p:txBody>
      </p:sp>
      <p:sp>
        <p:nvSpPr>
          <p:cNvPr id="143" name=""/>
          <p:cNvSpPr/>
          <p:nvPr/>
        </p:nvSpPr>
        <p:spPr>
          <a:xfrm>
            <a:off x="2819520" y="2133720"/>
            <a:ext cx="3352680" cy="1295280"/>
          </a:xfrm>
          <a:prstGeom prst="rect">
            <a:avLst/>
          </a:prstGeom>
          <a:noFill/>
          <a:ln w="4428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عناصر أصول وإلتزامات دورة</a:t>
            </a:r>
            <a:endParaRPr b="0" lang="en-US" sz="20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نشاط العادية (الأصول</a:t>
            </a:r>
            <a:endParaRPr b="0" lang="en-US" sz="20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والإلتزامات المتداولة) وصافيها</a:t>
            </a:r>
            <a:endParaRPr b="0" lang="en-US" sz="20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يمثل رأس المال العامل</a:t>
            </a:r>
            <a:endParaRPr b="0" lang="en-US" sz="2000" spc="-1" strike="noStrike">
              <a:solidFill>
                <a:srgbClr val="ffffff"/>
              </a:solidFill>
              <a:latin typeface="Times New Roman"/>
            </a:endParaRPr>
          </a:p>
        </p:txBody>
      </p:sp>
      <p:sp>
        <p:nvSpPr>
          <p:cNvPr id="144" name=""/>
          <p:cNvSpPr/>
          <p:nvPr/>
        </p:nvSpPr>
        <p:spPr>
          <a:xfrm>
            <a:off x="6313320" y="3809880"/>
            <a:ext cx="192276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نشاط إستثمار</a:t>
            </a:r>
            <a:endParaRPr b="0" lang="en-US" sz="2000" spc="-1" strike="noStrike">
              <a:solidFill>
                <a:srgbClr val="ffffff"/>
              </a:solidFill>
              <a:latin typeface="Times New Roman"/>
            </a:endParaRPr>
          </a:p>
        </p:txBody>
      </p:sp>
      <p:sp>
        <p:nvSpPr>
          <p:cNvPr id="145" name=""/>
          <p:cNvSpPr/>
          <p:nvPr/>
        </p:nvSpPr>
        <p:spPr>
          <a:xfrm>
            <a:off x="3624480" y="4038480"/>
            <a:ext cx="189828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نشط التشغيل</a:t>
            </a:r>
            <a:endParaRPr b="0" lang="en-US" sz="2000" spc="-1" strike="noStrike">
              <a:solidFill>
                <a:srgbClr val="ffffff"/>
              </a:solidFill>
              <a:latin typeface="Times New Roman"/>
            </a:endParaRPr>
          </a:p>
        </p:txBody>
      </p:sp>
      <p:sp>
        <p:nvSpPr>
          <p:cNvPr id="146" name=""/>
          <p:cNvSpPr/>
          <p:nvPr/>
        </p:nvSpPr>
        <p:spPr>
          <a:xfrm>
            <a:off x="741600" y="3809880"/>
            <a:ext cx="19058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نشاط التمويل</a:t>
            </a:r>
            <a:endParaRPr b="0" lang="en-US" sz="2000" spc="-1" strike="noStrike">
              <a:solidFill>
                <a:srgbClr val="ffffff"/>
              </a:solidFill>
              <a:latin typeface="Times New Roman"/>
            </a:endParaRPr>
          </a:p>
        </p:txBody>
      </p:sp>
      <p:sp>
        <p:nvSpPr>
          <p:cNvPr id="147" name=""/>
          <p:cNvSpPr/>
          <p:nvPr/>
        </p:nvSpPr>
        <p:spPr>
          <a:xfrm>
            <a:off x="380880" y="4495680"/>
            <a:ext cx="8229600" cy="2323440"/>
          </a:xfrm>
          <a:prstGeom prst="rect">
            <a:avLst/>
          </a:prstGeom>
          <a:noFill/>
          <a:ln w="0">
            <a:noFill/>
          </a:ln>
        </p:spPr>
        <p:style>
          <a:lnRef idx="0"/>
          <a:fillRef idx="0"/>
          <a:effectRef idx="0"/>
          <a:fontRef idx="minor"/>
        </p:style>
        <p:txBody>
          <a:bodyPr lIns="90000" rIns="90000" tIns="46800" bIns="46800" anchor="t">
            <a:spAutoFit/>
          </a:bodyPr>
          <a:p>
            <a:pPr marL="361800" indent="-361800" algn="just"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Arial"/>
              </a:rPr>
              <a:t>عرض التدفقات النقدية من أنشطة التشغيل والاستثمار والتمويل</a:t>
            </a:r>
            <a:endParaRPr b="0" lang="en-US" sz="2000" spc="-1" strike="noStrike">
              <a:solidFill>
                <a:srgbClr val="ffffff"/>
              </a:solidFill>
              <a:latin typeface="Times New Roman"/>
            </a:endParaRPr>
          </a:p>
          <a:p>
            <a:pPr marL="361800" indent="-361800" algn="just" rtl="1">
              <a:lnSpc>
                <a:spcPct val="10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يتم عرض التدفقات النقدية من أنشطة الاستثمار والتمويل على أساس إجمالى كل من المقبوضات النقدية وإجمالى المدفوعات النقدية.</a:t>
            </a:r>
            <a:endParaRPr b="0" lang="en-US" sz="2000" spc="-1" strike="noStrike">
              <a:solidFill>
                <a:srgbClr val="ffffff"/>
              </a:solidFill>
              <a:latin typeface="Times New Roman"/>
            </a:endParaRPr>
          </a:p>
          <a:p>
            <a:pPr marL="361800" indent="-361800" algn="just" rtl="1">
              <a:lnSpc>
                <a:spcPct val="10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يتم عادة عرض التدفقات النقدية من أنشطة التشغيل على أساس صافى التدفق النقدى المدفوع والمحصل لكل عنصر من عناصرها.</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533520" y="457200"/>
            <a:ext cx="8305560" cy="7644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تبويب عناصر التدفقات النقدية على الانشطة المختلف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أنشطة التشغيل</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نشأ التدفقات النقدية من أنشطة التشغيل عن طريق أنشطة توليد الإيراد الرئيسى والأنشطة الاخرى التى لا تعتبر أنشطة إستثمار او تمويل.</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النقدية من بيع البضائع أو تقديم الخدمات.</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النقدية من الأتاوات والعمولات والإيرادات الاخرى.</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للعاملين او بالنيابة عنهم والمقبوضات والمدفوعات النقدية من والى منشآت التأمين عن الأقساط والمطالبات والأشتراكات السنوية والمزايا الأخرى.</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أو إستردادت الضرائب ما لم تكن متعلقة بأنشطة تمويل او إستثمار.</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والمدفوعات النقدية من العقود المحتفظ بها لأغراض المضاربة أو المتاجرة مثل عقود الصرف الآجل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1T08:44:35Z</dcterms:created>
  <dc:creator>Administrator</dc:creator>
  <dc:description/>
  <dc:language>en-US</dc:language>
  <cp:lastModifiedBy>elmoetaz</cp:lastModifiedBy>
  <dcterms:modified xsi:type="dcterms:W3CDTF">2006-09-17T09:36:22Z</dcterms:modified>
  <cp:revision>44</cp:revision>
  <dc:subject/>
  <dc:title>PowerPoint Presentation</dc:title>
</cp:coreProperties>
</file>